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8792-6E27-4ECD-9C05-EB95D2178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9AEE-5310-4222-9BF8-38E3B59F3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D6D6-140B-46D1-A952-066AF7BDE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8526-59C9-4C58-ACA6-DA02E5CF3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1659-7DB9-482F-9595-E0232238D4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6C28-235D-45AF-B616-D0410B0905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ECE1-E4C4-4318-AEC4-520E891816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1015-C6A3-475F-A234-7A016751DF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D20DA-0AEB-4308-A8D6-138DEC8422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FC8CF-1966-4783-989B-A000324A21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5819-1C13-4B45-BA7C-CC2EBCB1B7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A7DD-F3DA-4828-B212-CF4B24B2E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5A04-EE53-4966-92B6-3C9BC6EC70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5C33-08DF-43EC-A999-FFBAA9F62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47BB-BEAF-4F8D-82E7-C8E928D75B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27E2-9460-42B3-A379-E53FDD61F7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701C-2B4B-42F0-8A60-7921DF0BDE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27E-BA7C-442A-81A8-2DB986DD92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E21-076B-4D13-9F96-045DA6216D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1FF-7D4A-4B3A-8291-2C1C56946A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1D1-DF15-46EA-9EAF-DA9C58C141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70C-279E-498E-813F-DE79E3A30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F3FF-D93D-474C-A5B1-349F925B08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FDF-2616-45CD-AB89-148504E39E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615-200C-4D61-A52B-524A93C398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0FA-67CB-4E0E-AC19-1676DA765D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04D-E428-40D2-B30D-5CFD5A20B8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B50-0DED-43F0-AE34-93EBA35A6B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C58-183F-402E-A8B1-654A49D816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92E-B798-46FF-AAEC-87FC25E57A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A025C-725C-472A-A818-5C45937386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35498-1EC2-40F3-A214-9177CFD1AB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051F4-4F43-470D-A8F3-F1A7E8207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C010-26DB-4EBF-A2CE-31F21D715A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1EDF8-0269-4CB3-A444-CA80733751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621FE-CEF6-4825-A10C-83C8F16156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06E3D-C330-4899-B612-6ECFFFA040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CA3F4-BB9B-49DF-8C4C-4446FC5BE3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0784C-E5BD-48ED-B59C-F3009EBEA9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BE795-A30E-4472-B7AE-D872CB9D32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E699F-3579-4BB3-A002-033FD7469C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BC435-43C5-4710-B4F9-FC82194961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7324C-F788-4688-8B44-AB7DEAAFE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5FA3-5112-44DA-99ED-BCCF5CEF6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3C04-C23D-4F34-8179-86CE7E6D0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15E0-629A-49BE-88C1-85F804081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B59C-AF84-472A-ABB2-B66480965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83AE-1701-4EB6-BE7D-FA7050362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A217-5DAE-4BCC-94FC-8C92B5AE83D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2075-55E5-44BB-8BF6-3FB8F057D2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97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597-113C-4A32-96C8-D285D219D53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9303-69F7-4A5A-BDD3-39FB36FE51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209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dictive Runtime Analysis: Datara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ormal  Methods in System Design– CS47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igore Ros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B41D-0597-45B7-A154-068B5DAF4E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548360" y="24130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40800" y="34034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67720" y="4608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61960" y="56134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297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00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BF7-0A61-40B5-ADE0-3F54D7E5D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482840" y="2413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5280" y="34034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02200" y="46083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96800" y="56134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312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2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15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29800" y="602784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arn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7DF-B6A4-48F4-ADB6-0F0317A7B3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Improv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vars are usually initialized without a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shar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shared vars are usually written at initialization and are read-only there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write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 shared var to have multiple readers but only a single wri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893-78D8-4251-9CF7-703D511FED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M for each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600200"/>
            <a:ext cx="1447920" cy="838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352680"/>
            <a:ext cx="1447920" cy="83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5562720"/>
            <a:ext cx="1447920" cy="838080"/>
          </a:xfrm>
          <a:prstGeom prst="ellipse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352680"/>
            <a:ext cx="1447920" cy="838440"/>
          </a:xfrm>
          <a:prstGeom prst="ellipse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4"/>
            <a:endCxn id="322" idx="0"/>
          </p:cNvCxnSpPr>
          <p:nvPr/>
        </p:nvCxnSpPr>
        <p:spPr>
          <a:xfrm>
            <a:off x="2704680" y="24382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2" idx="4"/>
            <a:endCxn id="323" idx="0"/>
          </p:cNvCxnSpPr>
          <p:nvPr/>
        </p:nvCxnSpPr>
        <p:spPr>
          <a:xfrm>
            <a:off x="2704680" y="4191120"/>
            <a:ext cx="1080" cy="137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3" idx="6"/>
            <a:endCxn id="324" idx="3"/>
          </p:cNvCxnSpPr>
          <p:nvPr/>
        </p:nvCxnSpPr>
        <p:spPr>
          <a:xfrm flipV="1">
            <a:off x="3428640" y="4068360"/>
            <a:ext cx="2423160" cy="1913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2" idx="6"/>
            <a:endCxn id="324" idx="2"/>
          </p:cNvCxnSpPr>
          <p:nvPr/>
        </p:nvCxnSpPr>
        <p:spPr>
          <a:xfrm>
            <a:off x="3429000" y="3771720"/>
            <a:ext cx="2210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2" idx="1"/>
            <a:endCxn id="322" idx="3"/>
          </p:cNvCxnSpPr>
          <p:nvPr/>
        </p:nvCxnSpPr>
        <p:spPr>
          <a:xfrm flipH="1" rot="16200000">
            <a:off x="1897560" y="376992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3" idx="1"/>
            <a:endCxn id="323" idx="3"/>
          </p:cNvCxnSpPr>
          <p:nvPr/>
        </p:nvCxnSpPr>
        <p:spPr>
          <a:xfrm flipH="1" rot="16200000">
            <a:off x="1897560" y="597960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4" idx="7"/>
            <a:endCxn id="324" idx="5"/>
          </p:cNvCxnSpPr>
          <p:nvPr/>
        </p:nvCxnSpPr>
        <p:spPr>
          <a:xfrm flipH="1" rot="16200000">
            <a:off x="6577560" y="3769920"/>
            <a:ext cx="594360" cy="2520"/>
          </a:xfrm>
          <a:prstGeom prst="curvedConnector5">
            <a:avLst>
              <a:gd name="adj1" fmla="val -59090"/>
              <a:gd name="adj2" fmla="val 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238840" y="2590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9400" y="4343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0" y="39783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rst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0400" y="5638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68040" y="289548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12040" y="5562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73840" y="2590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5257800"/>
            <a:ext cx="38088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6172200"/>
            <a:ext cx="380880" cy="228600"/>
          </a:xfrm>
          <a:prstGeom prst="rect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5715000"/>
            <a:ext cx="380880" cy="228600"/>
          </a:xfrm>
          <a:prstGeom prst="rect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54880" y="5105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54520" y="5562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7040" y="6019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lso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DDE-5DE3-40A8-B1E0-845983F8FB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1752480"/>
            <a:ext cx="1981080" cy="60984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2819520"/>
            <a:ext cx="1981080" cy="60948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208960" y="3886200"/>
            <a:ext cx="2971800" cy="838080"/>
          </a:xfrm>
          <a:prstGeom prst="wedgeEllipseCallout">
            <a:avLst>
              <a:gd name="adj1" fmla="val -75324"/>
              <a:gd name="adj2" fmla="val 109467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208960" y="4952880"/>
            <a:ext cx="2971800" cy="83844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8960" y="5943600"/>
            <a:ext cx="2971800" cy="83808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C0D-BAE9-4DA0-8B5E-567F19F301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3916440"/>
            <a:ext cx="8229600" cy="2484360"/>
            <a:chOff x="457200" y="3916440"/>
            <a:chExt cx="8229600" cy="2484360"/>
          </a:xfrm>
        </p:grpSpPr>
        <p:sp>
          <p:nvSpPr>
            <p:cNvPr id="363" name=""/>
            <p:cNvSpPr/>
            <p:nvPr/>
          </p:nvSpPr>
          <p:spPr>
            <a:xfrm>
              <a:off x="457200" y="3962520"/>
              <a:ext cx="8229600" cy="2438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623040" y="4114800"/>
              <a:ext cx="4928400" cy="2206080"/>
              <a:chOff x="3623040" y="4114800"/>
              <a:chExt cx="4928400" cy="2206080"/>
            </a:xfrm>
          </p:grpSpPr>
          <p:sp>
            <p:nvSpPr>
              <p:cNvPr id="365" name=""/>
              <p:cNvSpPr/>
              <p:nvPr/>
            </p:nvSpPr>
            <p:spPr>
              <a:xfrm>
                <a:off x="7021440" y="4406760"/>
                <a:ext cx="685440" cy="1524240"/>
              </a:xfrm>
              <a:custGeom>
                <a:avLst/>
                <a:gdLst>
                  <a:gd name="textAreaLeft" fmla="*/ 55080 w 685440"/>
                  <a:gd name="textAreaRight" fmla="*/ 630360 w 685440"/>
                  <a:gd name="textAreaTop" fmla="*/ 55080 h 1524240"/>
                  <a:gd name="textAreaBottom" fmla="*/ 1469160 h 1524240"/>
                </a:gdLst>
                <a:ahLst/>
                <a:rect l="textAreaLeft" t="textAreaTop" r="textAreaRight" b="textAreaBottom"/>
                <a:pathLst>
                  <a:path w="21600" h="48019">
                    <a:moveTo>
                      <a:pt x="5956" y="0"/>
                    </a:moveTo>
                    <a:arcTo wR="5956" hR="5956" stAng="16200000" swAng="-5400000"/>
                    <a:lnTo>
                      <a:pt x="0" y="42063"/>
                    </a:lnTo>
                    <a:arcTo wR="5956" hR="5956" stAng="10800000" swAng="-5400000"/>
                    <a:lnTo>
                      <a:pt x="15644" y="48019"/>
                    </a:lnTo>
                    <a:arcTo wR="5956" hR="5956" stAng="5400000" swAng="-5400000"/>
                    <a:lnTo>
                      <a:pt x="21600" y="5956"/>
                    </a:lnTo>
                    <a:arcTo wR="5956" hR="5956" stAng="0" swAng="-5400000"/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27680" y="4114800"/>
                <a:ext cx="3617280" cy="588960"/>
              </a:xfrm>
              <a:custGeom>
                <a:avLst/>
                <a:gdLst/>
                <a:ahLst/>
                <a:rect l="l" t="t" r="r" b="b"/>
                <a:pathLst>
                  <a:path w="2279" h="371">
                    <a:moveTo>
                      <a:pt x="0" y="218"/>
                    </a:moveTo>
                    <a:cubicBezTo>
                      <a:pt x="108" y="242"/>
                      <a:pt x="396" y="349"/>
                      <a:pt x="647" y="360"/>
                    </a:cubicBezTo>
                    <a:cubicBezTo>
                      <a:pt x="898" y="371"/>
                      <a:pt x="1235" y="342"/>
                      <a:pt x="1507" y="282"/>
                    </a:cubicBezTo>
                    <a:cubicBezTo>
                      <a:pt x="1779" y="222"/>
                      <a:pt x="2118" y="59"/>
                      <a:pt x="2279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95960" y="41846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71960" y="4697280"/>
                <a:ext cx="3555720" cy="517680"/>
              </a:xfrm>
              <a:custGeom>
                <a:avLst/>
                <a:gdLst/>
                <a:ahLst/>
                <a:rect l="l" t="t" r="r" b="b"/>
                <a:pathLst>
                  <a:path w="2240" h="326">
                    <a:moveTo>
                      <a:pt x="0" y="242"/>
                    </a:moveTo>
                    <a:cubicBezTo>
                      <a:pt x="108" y="254"/>
                      <a:pt x="386" y="326"/>
                      <a:pt x="647" y="313"/>
                    </a:cubicBezTo>
                    <a:cubicBezTo>
                      <a:pt x="908" y="300"/>
                      <a:pt x="1299" y="216"/>
                      <a:pt x="1565" y="164"/>
                    </a:cubicBezTo>
                    <a:cubicBezTo>
                      <a:pt x="1831" y="112"/>
                      <a:pt x="2099" y="34"/>
                      <a:pt x="224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23040" y="48704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95720" y="5526000"/>
                <a:ext cx="3555720" cy="459000"/>
              </a:xfrm>
              <a:custGeom>
                <a:avLst/>
                <a:gdLst/>
                <a:ahLst/>
                <a:rect l="l" t="t" r="r" b="b"/>
                <a:pathLst>
                  <a:path w="2240" h="289">
                    <a:moveTo>
                      <a:pt x="0" y="289"/>
                    </a:moveTo>
                    <a:cubicBezTo>
                      <a:pt x="125" y="255"/>
                      <a:pt x="500" y="130"/>
                      <a:pt x="753" y="83"/>
                    </a:cubicBezTo>
                    <a:cubicBezTo>
                      <a:pt x="1006" y="36"/>
                      <a:pt x="1273" y="8"/>
                      <a:pt x="1521" y="4"/>
                    </a:cubicBezTo>
                    <a:cubicBezTo>
                      <a:pt x="1769" y="0"/>
                      <a:pt x="2090" y="49"/>
                      <a:pt x="2240" y="6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67520" y="586116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349360" y="391644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9360" y="5549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11960" y="4572000"/>
              <a:ext cx="20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false al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31440" y="23004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1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8240" y="28195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4240" y="32907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2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7956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2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2600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7200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3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972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3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2184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7252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1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56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266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508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65B-D09C-48AA-A7CC-0D81527142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cise datarace detectio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ime/space expensive than Era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ome of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memory ac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new read/write event is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it against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previous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the new memory access only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AE2-9491-40AF-9264-A54C03DE8A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Database of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a database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toring tu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, R/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variable or memory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xecution thread accessing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set of current locks hel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/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lag giving the type of access (read or wr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ly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emp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315-8761-49AF-86D9-BF4BAE5D2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at a threa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holding lock se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is seen to perform a read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a write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f a variab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the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ases can be distinguished, but before that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474-3E85-4E08-AEF3-F0BA542B3F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major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effective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if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/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just received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’ = (v : T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lready 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imply discarded, because any possible warning message (datarace) involving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uld be reported because o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4D5-8229-48A9-A079-EFC6072513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ve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458200" y="594360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291520" y="2849400"/>
            <a:ext cx="824040" cy="2494080"/>
          </a:xfrm>
          <a:custGeom>
            <a:avLst/>
            <a:gdLst/>
            <a:ahLst/>
            <a:rect l="l" t="t" r="r" b="b"/>
            <a:pathLst>
              <a:path w="519" h="1571">
                <a:moveTo>
                  <a:pt x="519" y="5"/>
                </a:moveTo>
                <a:cubicBezTo>
                  <a:pt x="436" y="33"/>
                  <a:pt x="484" y="25"/>
                  <a:pt x="375" y="14"/>
                </a:cubicBezTo>
                <a:cubicBezTo>
                  <a:pt x="317" y="0"/>
                  <a:pt x="261" y="4"/>
                  <a:pt x="204" y="23"/>
                </a:cubicBezTo>
                <a:cubicBezTo>
                  <a:pt x="180" y="59"/>
                  <a:pt x="167" y="53"/>
                  <a:pt x="132" y="77"/>
                </a:cubicBezTo>
                <a:cubicBezTo>
                  <a:pt x="126" y="86"/>
                  <a:pt x="122" y="96"/>
                  <a:pt x="114" y="104"/>
                </a:cubicBezTo>
                <a:cubicBezTo>
                  <a:pt x="106" y="112"/>
                  <a:pt x="93" y="113"/>
                  <a:pt x="87" y="122"/>
                </a:cubicBezTo>
                <a:cubicBezTo>
                  <a:pt x="77" y="138"/>
                  <a:pt x="69" y="176"/>
                  <a:pt x="69" y="176"/>
                </a:cubicBezTo>
                <a:cubicBezTo>
                  <a:pt x="66" y="203"/>
                  <a:pt x="60" y="230"/>
                  <a:pt x="60" y="257"/>
                </a:cubicBezTo>
                <a:cubicBezTo>
                  <a:pt x="60" y="272"/>
                  <a:pt x="65" y="287"/>
                  <a:pt x="69" y="302"/>
                </a:cubicBezTo>
                <a:cubicBezTo>
                  <a:pt x="78" y="333"/>
                  <a:pt x="93" y="413"/>
                  <a:pt x="123" y="437"/>
                </a:cubicBezTo>
                <a:cubicBezTo>
                  <a:pt x="130" y="443"/>
                  <a:pt x="141" y="443"/>
                  <a:pt x="150" y="446"/>
                </a:cubicBezTo>
                <a:cubicBezTo>
                  <a:pt x="177" y="486"/>
                  <a:pt x="213" y="514"/>
                  <a:pt x="240" y="554"/>
                </a:cubicBezTo>
                <a:cubicBezTo>
                  <a:pt x="269" y="669"/>
                  <a:pt x="216" y="778"/>
                  <a:pt x="105" y="815"/>
                </a:cubicBezTo>
                <a:cubicBezTo>
                  <a:pt x="78" y="812"/>
                  <a:pt x="50" y="815"/>
                  <a:pt x="24" y="806"/>
                </a:cubicBezTo>
                <a:cubicBezTo>
                  <a:pt x="14" y="802"/>
                  <a:pt x="7" y="790"/>
                  <a:pt x="6" y="779"/>
                </a:cubicBezTo>
                <a:cubicBezTo>
                  <a:pt x="0" y="703"/>
                  <a:pt x="21" y="666"/>
                  <a:pt x="87" y="644"/>
                </a:cubicBezTo>
                <a:cubicBezTo>
                  <a:pt x="148" y="653"/>
                  <a:pt x="190" y="656"/>
                  <a:pt x="213" y="725"/>
                </a:cubicBezTo>
                <a:cubicBezTo>
                  <a:pt x="219" y="743"/>
                  <a:pt x="231" y="779"/>
                  <a:pt x="231" y="779"/>
                </a:cubicBezTo>
                <a:cubicBezTo>
                  <a:pt x="223" y="893"/>
                  <a:pt x="208" y="993"/>
                  <a:pt x="186" y="1103"/>
                </a:cubicBezTo>
                <a:cubicBezTo>
                  <a:pt x="177" y="1209"/>
                  <a:pt x="180" y="1291"/>
                  <a:pt x="213" y="1391"/>
                </a:cubicBezTo>
                <a:cubicBezTo>
                  <a:pt x="226" y="1431"/>
                  <a:pt x="259" y="1448"/>
                  <a:pt x="267" y="1472"/>
                </a:cubicBezTo>
                <a:cubicBezTo>
                  <a:pt x="281" y="1513"/>
                  <a:pt x="283" y="1542"/>
                  <a:pt x="312" y="15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ilm"/>
          <p:cNvSpPr/>
          <p:nvPr/>
        </p:nvSpPr>
        <p:spPr>
          <a:xfrm rot="14303400">
            <a:off x="7509960" y="4376160"/>
            <a:ext cx="447480" cy="2819520"/>
          </a:xfrm>
          <a:prstGeom prst="pie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29560" y="5343480"/>
            <a:ext cx="216000" cy="642960"/>
          </a:xfrm>
          <a:custGeom>
            <a:avLst/>
            <a:gdLst/>
            <a:ahLst/>
            <a:rect l="l" t="t" r="r" b="b"/>
            <a:pathLst>
              <a:path w="136" h="405">
                <a:moveTo>
                  <a:pt x="90" y="0"/>
                </a:moveTo>
                <a:cubicBezTo>
                  <a:pt x="113" y="68"/>
                  <a:pt x="136" y="54"/>
                  <a:pt x="108" y="153"/>
                </a:cubicBezTo>
                <a:cubicBezTo>
                  <a:pt x="105" y="165"/>
                  <a:pt x="89" y="170"/>
                  <a:pt x="81" y="180"/>
                </a:cubicBezTo>
                <a:cubicBezTo>
                  <a:pt x="61" y="206"/>
                  <a:pt x="37" y="230"/>
                  <a:pt x="27" y="261"/>
                </a:cubicBezTo>
                <a:cubicBezTo>
                  <a:pt x="0" y="343"/>
                  <a:pt x="9" y="296"/>
                  <a:pt x="9" y="4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10480" y="5029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305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bug potentials from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ccessful r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dataraces, dead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ale well, very f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find the b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lse positives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F79E-48B9-44DC-AC8B-611EFB8A4E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colors and sha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distinct colors for distinct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shapes for read/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s for 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s for wr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xagons for “don’t ca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he scenario on the previous slide can be drawn as follow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419720"/>
            <a:ext cx="2971800" cy="2209680"/>
          </a:xfrm>
          <a:prstGeom prst="hexagon">
            <a:avLst>
              <a:gd name="adj" fmla="val 33623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99320" y="4373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5181480"/>
            <a:ext cx="1143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81280" y="521172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4724280"/>
            <a:ext cx="1371600" cy="9907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5486400"/>
            <a:ext cx="1295280" cy="12193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1676520"/>
            <a:ext cx="7621200" cy="3583080"/>
            <a:chOff x="685800" y="1676520"/>
            <a:chExt cx="7621200" cy="3583080"/>
          </a:xfrm>
        </p:grpSpPr>
        <p:sp>
          <p:nvSpPr>
            <p:cNvPr id="404" name=""/>
            <p:cNvSpPr/>
            <p:nvPr/>
          </p:nvSpPr>
          <p:spPr>
            <a:xfrm>
              <a:off x="685800" y="1676520"/>
              <a:ext cx="6324480" cy="2895480"/>
            </a:xfrm>
            <a:prstGeom prst="cloudCallout">
              <a:avLst>
                <a:gd name="adj1" fmla="val 15111"/>
                <a:gd name="adj2" fmla="val 84703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m, if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oes not intersect the lock set of another thread accessing same variable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then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is not going to intersect it either, so a warning will be reported anyway.  So I can discard the tuple just receive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0480" y="3946680"/>
              <a:ext cx="776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82F-B3F5-4F12-AB02-1D2D72C5E5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R/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3200400"/>
            <a:ext cx="3124440" cy="2590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1480" y="4038480"/>
            <a:ext cx="1905120" cy="1447920"/>
          </a:xfrm>
          <a:prstGeom prst="hexagon">
            <a:avLst>
              <a:gd name="adj" fmla="val 32894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23200" y="29098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C7B-2EA7-4FD3-814B-80DFD59533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2438280"/>
            <a:ext cx="2743200" cy="228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3200400"/>
            <a:ext cx="144792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05760" y="19051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724-9539-44AE-A430-F3F34DA35E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therwis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ecking read conflict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a read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288-87BD-4653-8C00-0DCD56F7ED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4343400"/>
            <a:ext cx="160020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3657600"/>
            <a:ext cx="2590920" cy="2209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29600" y="28954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0B1-AD43-42D7-BFEF-12D086F386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2971800"/>
            <a:ext cx="175248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2590920"/>
            <a:ext cx="2210040" cy="1981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32360" y="24829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65760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6C6-9486-4A31-9AE5-BD8BED1261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2438280"/>
            <a:ext cx="28195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843440" y="21337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F72-9DC9-404B-A98F-C951986E99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4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an mark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to be checked only against rea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823440" y="350532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60960" y="251460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2438280"/>
            <a:ext cx="2666880" cy="2210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3352680"/>
            <a:ext cx="152388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0D6-1ECE-4637-8419-E3C2075D2F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hecking write confli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tup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 current state o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 write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 and only i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R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marked, 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B00-8147-449C-BDB5-84A634447D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66280" y="19051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2376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60520" y="29098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37560" y="3443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400" y="44337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1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04920" y="4343400"/>
            <a:ext cx="2433600" cy="1054080"/>
            <a:chOff x="304920" y="4343400"/>
            <a:chExt cx="2433600" cy="1054080"/>
          </a:xfrm>
        </p:grpSpPr>
        <p:sp>
          <p:nvSpPr>
            <p:cNvPr id="474" name=""/>
            <p:cNvSpPr/>
            <p:nvPr/>
          </p:nvSpPr>
          <p:spPr>
            <a:xfrm>
              <a:off x="676080" y="502920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1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8480" y="5591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09600" y="5500800"/>
            <a:ext cx="2433600" cy="1053720"/>
            <a:chOff x="309600" y="5500800"/>
            <a:chExt cx="2433600" cy="1053720"/>
          </a:xfrm>
        </p:grpSpPr>
        <p:sp>
          <p:nvSpPr>
            <p:cNvPr id="478" name=""/>
            <p:cNvSpPr/>
            <p:nvPr/>
          </p:nvSpPr>
          <p:spPr>
            <a:xfrm>
              <a:off x="312480" y="618624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9600" y="55008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645880" y="44337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643360" y="4343400"/>
            <a:ext cx="2433600" cy="1054080"/>
            <a:chOff x="5643360" y="4343400"/>
            <a:chExt cx="2433600" cy="1054080"/>
          </a:xfrm>
        </p:grpSpPr>
        <p:sp>
          <p:nvSpPr>
            <p:cNvPr id="482" name=""/>
            <p:cNvSpPr/>
            <p:nvPr/>
          </p:nvSpPr>
          <p:spPr>
            <a:xfrm>
              <a:off x="5646240" y="502920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4336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6055200" y="5729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2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643720" y="5638680"/>
            <a:ext cx="2433600" cy="1054080"/>
            <a:chOff x="5643720" y="5638680"/>
            <a:chExt cx="2433600" cy="1054080"/>
          </a:xfrm>
        </p:grpSpPr>
        <p:sp>
          <p:nvSpPr>
            <p:cNvPr id="486" name=""/>
            <p:cNvSpPr/>
            <p:nvPr/>
          </p:nvSpPr>
          <p:spPr>
            <a:xfrm>
              <a:off x="6014880" y="63244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2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3720" y="56386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438280" y="4952880"/>
            <a:ext cx="3505320" cy="12193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37120" y="571500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452-3347-4440-A52E-393C7E9124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905120"/>
            <a:ext cx="7467840" cy="167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when two or mor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a shared variable, at least one access is a wr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 mechanism is used to prevent simultaneous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4572000"/>
            <a:ext cx="1447560" cy="990720"/>
          </a:xfrm>
          <a:prstGeom prst="ellipse">
            <a:avLst/>
          </a:prstGeom>
          <a:solidFill>
            <a:srgbClr val="fd2e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572000"/>
            <a:ext cx="1447560" cy="990720"/>
          </a:xfrm>
          <a:prstGeom prst="ellipse">
            <a:avLst/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800600"/>
            <a:ext cx="76176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: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2" idx="6"/>
            <a:endCxn id="204" idx="1"/>
          </p:cNvCxnSpPr>
          <p:nvPr/>
        </p:nvCxnSpPr>
        <p:spPr>
          <a:xfrm>
            <a:off x="33523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6" name=""/>
          <p:cNvCxnSpPr>
            <a:stCxn id="204" idx="3"/>
            <a:endCxn id="203" idx="2"/>
          </p:cNvCxnSpPr>
          <p:nvPr/>
        </p:nvCxnSpPr>
        <p:spPr>
          <a:xfrm>
            <a:off x="49525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20581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7760" y="541008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43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89480" y="3809880"/>
            <a:ext cx="44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 Solution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s, semaphor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4320" y="624852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2e05"/>
                </a:solidFill>
                <a:latin typeface="Times New Roman"/>
              </a:rPr>
              <a:t>Result after both updates : 2 …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3EB0-7678-43B6-B8D7-B559DAA76D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38560" y="22096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1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240" y="27288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1360" y="32004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2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632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2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2600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7912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3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8684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3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2184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7964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1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256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266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08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264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1,m2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91600" y="4267080"/>
            <a:ext cx="2446560" cy="1054080"/>
            <a:chOff x="291600" y="4267080"/>
            <a:chExt cx="2446560" cy="1054080"/>
          </a:xfrm>
        </p:grpSpPr>
        <p:sp>
          <p:nvSpPr>
            <p:cNvPr id="506" name=""/>
            <p:cNvSpPr/>
            <p:nvPr/>
          </p:nvSpPr>
          <p:spPr>
            <a:xfrm>
              <a:off x="29160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1,m2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56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22812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2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187440" y="4267080"/>
            <a:ext cx="2446560" cy="1054080"/>
            <a:chOff x="3187440" y="4267080"/>
            <a:chExt cx="2446560" cy="1054080"/>
          </a:xfrm>
        </p:grpSpPr>
        <p:sp>
          <p:nvSpPr>
            <p:cNvPr id="510" name=""/>
            <p:cNvSpPr/>
            <p:nvPr/>
          </p:nvSpPr>
          <p:spPr>
            <a:xfrm>
              <a:off x="318744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2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040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123600" y="43718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3, {m1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082920" y="4281480"/>
            <a:ext cx="2446560" cy="1054080"/>
            <a:chOff x="6082920" y="4281480"/>
            <a:chExt cx="2446560" cy="1054080"/>
          </a:xfrm>
        </p:grpSpPr>
        <p:sp>
          <p:nvSpPr>
            <p:cNvPr id="514" name=""/>
            <p:cNvSpPr/>
            <p:nvPr/>
          </p:nvSpPr>
          <p:spPr>
            <a:xfrm>
              <a:off x="6082920" y="49672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3, {m1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42814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41720" y="583560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 conflicts detec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973-847E-4187-B6D6-CFAD068F23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40080" y="552924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3440" y="4995720"/>
            <a:ext cx="278136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5680" y="491976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68880" y="4995720"/>
            <a:ext cx="285768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1676520"/>
            <a:ext cx="69343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Datarace in Ja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285560" y="1676520"/>
            <a:ext cx="167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ell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24600" y="49165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2640" y="544032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97560" y="5483160"/>
            <a:ext cx="17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25680" y="613872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24600" y="61387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44800" y="5148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944800" y="613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88000" y="6138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88000" y="514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076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0312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68440" y="2430360"/>
            <a:ext cx="18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85920" y="2432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14720" y="242712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11680" y="4049640"/>
            <a:ext cx="8749080" cy="2470680"/>
            <a:chOff x="211680" y="4049640"/>
            <a:chExt cx="8749080" cy="2470680"/>
          </a:xfrm>
        </p:grpSpPr>
        <p:sp>
          <p:nvSpPr>
            <p:cNvPr id="235" name=""/>
            <p:cNvSpPr/>
            <p:nvPr/>
          </p:nvSpPr>
          <p:spPr>
            <a:xfrm>
              <a:off x="3338280" y="4052880"/>
              <a:ext cx="236232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37920" y="404964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= new Object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04760" y="42782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00600" y="427824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680" y="495288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200" y="496404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3995640" y="56610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81FE-E81D-468C-B774-259D245C34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ng 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 program to emit events of the for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and maintain a knowledge database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ate machine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latio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warning if conflict found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852E-4BB5-46B1-A50B-D32BD83C9F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 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m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intain a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happens-befo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tial order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all events of all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ithin one threa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ed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ecuted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 2 thread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unlock(mutex),lock(mutex)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unlock executes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wo threads access the same variable and the two accesses are not i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w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5798-90EF-49A7-8C67-40A797CE1F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rot="16200000">
            <a:off x="1217880" y="21333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rot="16200000">
            <a:off x="1217880" y="2666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rot="16200000">
            <a:off x="1217880" y="3200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16200000">
            <a:off x="5637600" y="48002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rot="16200000">
            <a:off x="5637600" y="53337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6200000">
            <a:off x="5637600" y="58672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657600"/>
            <a:ext cx="2514600" cy="9144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152280" y="380988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two accesses of shared variables are in the relation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happens-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1D0D-981A-442F-A291-072481D778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546560" y="51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4600" y="5715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39360" y="61866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89960" y="20574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36040" y="2529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84200" y="30621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82920" y="4724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61240" y="35956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1217880" y="4952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16200000">
            <a:off x="1217880" y="5486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1217880" y="60195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6200000">
            <a:off x="5561280" y="22856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6200000">
            <a:off x="5561280" y="28191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16200000">
            <a:off x="5561280" y="33526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124080" y="3243240"/>
            <a:ext cx="2571840" cy="209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895480" y="3886200"/>
            <a:ext cx="2895840" cy="990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4724280" y="392256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, only this second execution reveals the existing datarac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1BDD-E7DD-449C-8E81-EFA9B53B4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age,Burrows,Nelson,Sobalvarro,And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ava Path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d 30,000 lines of code in a few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ndidate lo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tecting each variabl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oted by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locks held by each thread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ccess b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f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=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omes empty then warn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5F4-57B2-4D80-B49B-4AF6E1EE85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21:52:18Z</dcterms:created>
  <dc:creator>Default</dc:creator>
  <dc:description/>
  <dc:language>en-US</dc:language>
  <cp:lastModifiedBy>Your User Name</cp:lastModifiedBy>
  <dcterms:modified xsi:type="dcterms:W3CDTF">2007-04-17T12:01:15Z</dcterms:modified>
  <cp:revision>145</cp:revision>
  <dc:subject/>
  <dc:title>Experiments in Dynamic Analysis of Programs</dc:title>
</cp:coreProperties>
</file>